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12193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406080" y="696960"/>
            <a:ext cx="619740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1199-10DA-41AD-95A5-281CE4D5DF5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DD6B-4744-4168-BFAF-4CCDBC18F09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D7A3-54D4-4AFC-9B7D-5982D3D0545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B119-1B3B-41B2-8E31-E24FA8A23BB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9149-C19B-4126-BEF1-58403ED5440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7320-D325-4E91-9671-B5FE897C74E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31E0-378B-4430-AA86-EC68C04AA04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7C56-A7ED-4375-8976-035ADEA8606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D321-0C22-4229-A00A-439B356D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E73C-5B5F-40A4-A8E3-A61B3CE4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6C20-5DB4-440E-8844-BB3AD734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53B0-7CB0-416B-AF50-601BEE28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D56F-9ECA-4F1A-9D45-20629A1F7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3476-7F2F-4F62-8B67-5631D7F3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E671-F45A-4AB8-8DE6-0C8B3479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50BA-BABB-4C10-9ACB-7A7AF702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32EF-DB4E-464C-86FB-B6B9CF03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BB3F-0DF9-4143-BDB4-493340E1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AC2C-02D2-4EA3-8B00-5BF97704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CA64-F8F4-41D9-A258-B79D836D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ACE9-D338-4B2B-86C0-72AC77A8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E948-58C2-4BD9-AC02-39711EE4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C468-0362-4D04-9701-05A2AB78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F4E8-5186-4DA3-8B8F-1D790381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7D6A-BC7E-47E0-B25C-E45B4A17A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BD4DC-C016-45EC-9596-38156332C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43216-2085-4922-BC77-410B44CA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D896D-BFED-4E5E-B317-28C2DC27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14D85-0E48-4E16-8E22-780AB2A4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7F39F-DEA8-4BDF-8BF7-7D8035B7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B0B8-3130-413C-806D-400D335A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EE7D8-939F-4877-B305-5B1721B9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544DA-DDAD-4C5B-B50A-889E4765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8C5DE-B6B3-45F2-BFAB-5297F8CB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E8329-1E49-4EBB-8A99-BC4B2F61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D6A30-38F5-49B5-B35D-22803C95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3EEFB-62CE-418B-98EF-C7B3D87E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792D4-0913-48BC-915B-B25F012E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165F1-240F-4528-AAD5-1043E353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40654-300F-4835-AA3B-BE9E1AA3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EEE58-534A-4E75-BA00-D89024D6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E07C-14D7-4571-8515-F12EDAA6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4FA2D-E49E-4CAB-A3FD-D88CBD4E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239FB-4325-4258-B7F6-439FC3FB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BE1AC-9994-458D-9E5E-A895A661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662FB-B543-43F1-AB30-698BD139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214C1-A5FC-4264-B37F-76EB83A8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148E3-7595-46C7-8631-3CBEE04D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54B9C-13A0-4886-922E-C4EC6B7A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7C187-BE67-47C0-8304-D475E571D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C376B-2E8F-4061-BF7D-0FEF67A8F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CDB05-5013-451B-B4F4-A71ADB23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B7AF-934A-47AE-9331-50681F18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7CB15-1560-4463-9797-DDC5C980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EB2C1-C49C-40E8-8D6E-7F776498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AE397-3806-4CC3-9D50-03D75AE2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54256-691E-4F42-B265-C5F49F5D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499DE-1D67-4E0E-B788-5A03FC67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DF3C5-9175-4B49-A1CE-37CE5BA7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39B3A-28F8-44F7-BFBD-45736912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0E891-6671-484D-995E-64DF45C6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440A0-74CC-4095-9D4D-741079EE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608A4-80D6-4FD4-B9E4-EE33E92D2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B1BA-7992-4190-A13B-8AD20F03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48B5C-66AC-4AA7-9132-4CC8CF83B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67934-E7BD-4D33-AF07-66271F92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1D95D-ACED-4712-A902-FE48D016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CF8C4-C631-46FB-AFF3-7F64C793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684A0-AAA5-4A34-ADE1-36F6BF3A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A43A5-7D5C-4E22-BD76-BB5DBA07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0C4E4-B7E4-4417-A01A-630EEBCE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9FA48-4A58-4B4E-9CD3-F3615DBA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81E3E-28D0-459E-BADF-7D360DA2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181A9-8C60-4F86-986F-FB3C2EC9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904E-F374-4FE4-9D6C-A15A3CDB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9E0EE-BA84-4129-906E-28F2850E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EC2B8-341F-4F12-B167-C7E9E881F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61D10-3394-4E03-AD0C-333856B1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5B97-1FDB-4997-B0C9-F673576E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7E73-0488-41F0-8E93-21FE5ECB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31F1-716F-4B33-AE50-4531C9E9C425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0810-2751-4DF0-B42E-F0DFFC2153C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D62F-C311-4F1C-AD56-807507B1BFC5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3F60-36AD-4DE4-A985-748829FD9C40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1486-3867-48E4-B9BA-A5A0CD763211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C617-13B3-4E3E-9437-5DE58CC1E8B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6148-75CB-4C55-B94D-2D14B31396D2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E0E3-0F4D-4DBA-B67A-589F845BCBD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D585-F08D-4BB3-9821-A6F6F7DF08F7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E479-623C-451C-9F58-D1C7B18E13A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4989-DF00-4C21-A491-2B70CBDC5B57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EFA3-4BC7-45A2-B6D1-F482B4A8FDA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567160" y="1413000"/>
            <a:ext cx="693396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RESULTADO DO REGIME GERAL DE PREVIDÊNCIA SOCIAL – RGP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Junho/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julho de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2063880" y="61657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RGPS – 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34800" y="692280"/>
            <a:ext cx="1080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Imagem 1" descr=""/>
          <p:cNvPicPr/>
          <p:nvPr/>
        </p:nvPicPr>
        <p:blipFill>
          <a:blip r:embed="rId1"/>
          <a:stretch/>
        </p:blipFill>
        <p:spPr>
          <a:xfrm>
            <a:off x="334800" y="1279440"/>
            <a:ext cx="10801440" cy="520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1523880" y="76500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de Junh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351000" y="64692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Imagem 1" descr=""/>
          <p:cNvPicPr/>
          <p:nvPr/>
        </p:nvPicPr>
        <p:blipFill>
          <a:blip r:embed="rId1"/>
          <a:stretch/>
        </p:blipFill>
        <p:spPr>
          <a:xfrm>
            <a:off x="351000" y="1484280"/>
            <a:ext cx="10785240" cy="498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334800" y="731880"/>
            <a:ext cx="10801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263520" y="64832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Imagem 1" descr=""/>
          <p:cNvPicPr/>
          <p:nvPr/>
        </p:nvPicPr>
        <p:blipFill>
          <a:blip r:embed="rId1"/>
          <a:stretch/>
        </p:blipFill>
        <p:spPr>
          <a:xfrm>
            <a:off x="334800" y="1450800"/>
            <a:ext cx="11017440" cy="50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2135160" y="1052640"/>
            <a:ext cx="7993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TENDÊNCI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, DESPESA E NECESSIDADE DE FINANCI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334800" y="698400"/>
            <a:ext cx="1080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 e Despesa com Benefícios Previdenciários, nos últimos 25 mese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Junho/2017 - INPC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995720" y="11224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34800" y="64166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Imagem 1" descr=""/>
          <p:cNvPicPr/>
          <p:nvPr/>
        </p:nvPicPr>
        <p:blipFill>
          <a:blip r:embed="rId1"/>
          <a:stretch/>
        </p:blipFill>
        <p:spPr>
          <a:xfrm>
            <a:off x="334800" y="1346040"/>
            <a:ext cx="10801440" cy="50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334800" y="765000"/>
            <a:ext cx="1080144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Arial"/>
                <a:ea typeface="Arial Unicode MS"/>
              </a:rPr>
              <a:t>Composição da Arrecadação Líqu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Corrente, Recuperação de Créditos e Transferência a Terceiros, nos últimos 25 mese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Junho/2017 - INP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407880" y="6464160"/>
            <a:ext cx="670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Imagem 1" descr=""/>
          <p:cNvPicPr/>
          <p:nvPr/>
        </p:nvPicPr>
        <p:blipFill>
          <a:blip r:embed="rId1"/>
          <a:stretch/>
        </p:blipFill>
        <p:spPr>
          <a:xfrm>
            <a:off x="407880" y="1557360"/>
            <a:ext cx="10944360" cy="49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334800" y="692280"/>
            <a:ext cx="108014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Arial"/>
                <a:ea typeface="Arial Unicode MS"/>
              </a:rPr>
              <a:t>Composição da Despesa com Benefícios Previdenci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Benefícios Pagos pelo INSS e Sentenças Judiciais nos últimos 25 mese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– Em R$ bilhões de Junho/2017 (INP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334800" y="6464160"/>
            <a:ext cx="67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Imagem 1" descr=""/>
          <p:cNvPicPr/>
          <p:nvPr/>
        </p:nvPicPr>
        <p:blipFill>
          <a:blip r:embed="rId1"/>
          <a:stretch/>
        </p:blipFill>
        <p:spPr>
          <a:xfrm>
            <a:off x="334800" y="1628640"/>
            <a:ext cx="10801440" cy="48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334800" y="689040"/>
            <a:ext cx="109458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a Previdência Social nos últimos 25 mese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Junho/2017 - INP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334800" y="646596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Imagem 1" descr=""/>
          <p:cNvPicPr/>
          <p:nvPr/>
        </p:nvPicPr>
        <p:blipFill>
          <a:blip r:embed="rId1"/>
          <a:stretch/>
        </p:blipFill>
        <p:spPr>
          <a:xfrm>
            <a:off x="339840" y="1341360"/>
            <a:ext cx="10869480" cy="50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334800" y="765000"/>
            <a:ext cx="10801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 por Clientela – Média móvel de 12 me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(janeiro/2006 a junho/2017)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Junho/2017 - INP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334800" y="6464160"/>
            <a:ext cx="67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Imagem 1" descr=""/>
          <p:cNvPicPr/>
          <p:nvPr/>
        </p:nvPicPr>
        <p:blipFill>
          <a:blip r:embed="rId1"/>
          <a:stretch/>
        </p:blipFill>
        <p:spPr>
          <a:xfrm>
            <a:off x="334800" y="1413000"/>
            <a:ext cx="10801440" cy="499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326880" y="692280"/>
            <a:ext cx="108014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 – Média móvel de 12 me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(janeiro/2006 a junho/2017)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Junho/2017 (INPC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34800" y="6464160"/>
            <a:ext cx="67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Imagem 1" descr=""/>
          <p:cNvPicPr/>
          <p:nvPr/>
        </p:nvPicPr>
        <p:blipFill>
          <a:blip r:embed="rId1"/>
          <a:stretch/>
        </p:blipFill>
        <p:spPr>
          <a:xfrm>
            <a:off x="334800" y="1343160"/>
            <a:ext cx="1079352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URB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1523880" y="2060640"/>
            <a:ext cx="91440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BENEFÍCIOS EMITID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(ESTOQU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34800" y="692280"/>
            <a:ext cx="10801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Benefícios Emitidos – RGPS –</a:t>
            </a:r>
            <a:r>
              <a:rPr b="1" lang="pt-BR" sz="1700" spc="-1" strike="noStrike">
                <a:solidFill>
                  <a:srgbClr val="cc0000"/>
                </a:solidFill>
                <a:latin typeface="Arial"/>
                <a:ea typeface="Arial Unicode MS"/>
              </a:rPr>
              <a:t> Junho/2016, Maio/2017 e Junho/201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334800" y="6502320"/>
            <a:ext cx="108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responsabilidade do Ministério do Desenvolvimento Soc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Imagem 1" descr=""/>
          <p:cNvPicPr/>
          <p:nvPr/>
        </p:nvPicPr>
        <p:blipFill>
          <a:blip r:embed="rId1"/>
          <a:stretch/>
        </p:blipFill>
        <p:spPr>
          <a:xfrm>
            <a:off x="479520" y="1052640"/>
            <a:ext cx="10656720" cy="55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334800" y="1125360"/>
            <a:ext cx="1080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Entre dezembro de 2007 e junho de 2017, a quantidade de benefícios previdenciários e acidentários emitidos pela Previdência aumentou 33,3%, passando de 22,1 milhões para 29,4 milhõ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334800" y="765000"/>
            <a:ext cx="1080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volução da Quantidade de Benefícios Emitidos pela Previdência Social</a:t>
            </a:r>
            <a:r>
              <a:rPr b="1" i="1" lang="pt-BR" sz="1600" spc="-1" strike="noStrike">
                <a:solidFill>
                  <a:srgbClr val="629dd1"/>
                </a:solidFill>
                <a:latin typeface="Arial"/>
                <a:ea typeface="Arial Unicode MS"/>
              </a:rPr>
              <a:t>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Em milhões de benefícios - 2007 a 2016 (dezembro), 2017 (Junh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34800" y="6445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responsabilidade do Ministério do Desenvolvimento Soc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Imagem 1" descr=""/>
          <p:cNvPicPr/>
          <p:nvPr/>
        </p:nvPicPr>
        <p:blipFill>
          <a:blip r:embed="rId1"/>
          <a:stretch/>
        </p:blipFill>
        <p:spPr>
          <a:xfrm>
            <a:off x="407880" y="1582560"/>
            <a:ext cx="10728360" cy="501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334800" y="717480"/>
            <a:ext cx="1080144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Valor Médio Real dos Benefícios Pagos pela Previdência Social (2010 a 2017)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Média de Janeiro a Junho de cada ano – Em R$ de Junh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334800" y="1268280"/>
            <a:ext cx="10801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O valor médio real dos benefícios da Previdência Social atingiu R$ 1.243,81, na média de janeiro a junho de 2017, o que representou um crescimento de 11,2% em relação ao mesmo período de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6555600" y="4956120"/>
            <a:ext cx="109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  <a:ea typeface="Arial"/>
              </a:rPr>
              <a:t>Varia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  <a:ea typeface="Arial"/>
              </a:rPr>
              <a:t>+11,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5"/>
          <p:cNvSpPr/>
          <p:nvPr/>
        </p:nvSpPr>
        <p:spPr>
          <a:xfrm flipV="1">
            <a:off x="2567160" y="5229000"/>
            <a:ext cx="3995640" cy="43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6"/>
          <p:cNvSpPr/>
          <p:nvPr/>
        </p:nvSpPr>
        <p:spPr>
          <a:xfrm flipH="1">
            <a:off x="7608600" y="2997360"/>
            <a:ext cx="2879640" cy="2095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1562040" y="6343560"/>
            <a:ext cx="8610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Inclui apenas os benefícios previdenciários e acidentári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Imagem 1" descr=""/>
          <p:cNvPicPr/>
          <p:nvPr/>
        </p:nvPicPr>
        <p:blipFill>
          <a:blip r:embed="rId1"/>
          <a:stretch/>
        </p:blipFill>
        <p:spPr>
          <a:xfrm>
            <a:off x="192240" y="1728720"/>
            <a:ext cx="1080108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334800" y="6334200"/>
            <a:ext cx="10801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s: DATAPREV, SUB, SINTESE.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Obs.: A existência de benefícios com valores inferiores ao salário mínimo deve-se ao desmembramento de pensões e ao pagamento de benefícios como o salário-família, </a:t>
            </a:r>
            <a:br>
              <a:rPr sz="900"/>
            </a:b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o auxílio suplementar, o auxílio acidente e o abono de permanênci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4871880" y="2133720"/>
            <a:ext cx="554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c0000"/>
                </a:solidFill>
                <a:latin typeface="Arial"/>
                <a:ea typeface="Arial"/>
              </a:rPr>
              <a:t>Cerca de 68,0% dos benefícios pagos pelo INSS em Junho/2017 possuíam o valor de até um salário mínimo, o que representa um contingente de 23,1 milhões de beneficiários diret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334800" y="765000"/>
            <a:ext cx="1080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Distribuição de Benefícios Emitidos, segundo faixas de Valor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Em Pisos Previdenciários (Posição Junho/20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Imagem 1" descr=""/>
          <p:cNvPicPr/>
          <p:nvPr/>
        </p:nvPicPr>
        <p:blipFill>
          <a:blip r:embed="rId1"/>
          <a:stretch/>
        </p:blipFill>
        <p:spPr>
          <a:xfrm>
            <a:off x="479520" y="1341360"/>
            <a:ext cx="10801080" cy="49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1523880" y="2492280"/>
            <a:ext cx="9107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BENEFÍCIOS CONCEDID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(FLUX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334800" y="765000"/>
            <a:ext cx="1080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4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Benefícios Concedidos – RG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Junho/2016, Maio/2017 e Junho/2017, Acumulado Janeiro a Junho (2016 e 20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485640" y="6489720"/>
            <a:ext cx="93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Imagem 1" descr=""/>
          <p:cNvPicPr/>
          <p:nvPr/>
        </p:nvPicPr>
        <p:blipFill>
          <a:blip r:embed="rId1"/>
          <a:stretch/>
        </p:blipFill>
        <p:spPr>
          <a:xfrm>
            <a:off x="365040" y="1176480"/>
            <a:ext cx="1077120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334800" y="744480"/>
            <a:ext cx="10801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Benefícios Concedidos pela Previdência Social (2009 a 2017)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Acumulado de Janeiro a Junho (Em milhares de benefíci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334800" y="630864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Imagem 1" descr=""/>
          <p:cNvPicPr/>
          <p:nvPr/>
        </p:nvPicPr>
        <p:blipFill>
          <a:blip r:embed="rId1"/>
          <a:stretch/>
        </p:blipFill>
        <p:spPr>
          <a:xfrm>
            <a:off x="334800" y="1125360"/>
            <a:ext cx="108014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85840" y="836640"/>
            <a:ext cx="10850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nho (2016 e 2017) – Em R$ milhões de Junh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285840" y="646416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Imagem 1" descr=""/>
          <p:cNvPicPr/>
          <p:nvPr/>
        </p:nvPicPr>
        <p:blipFill>
          <a:blip r:embed="rId1"/>
          <a:stretch/>
        </p:blipFill>
        <p:spPr>
          <a:xfrm>
            <a:off x="285840" y="1413000"/>
            <a:ext cx="10850400" cy="50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34800" y="765000"/>
            <a:ext cx="10730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nh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Imagem 1" descr=""/>
          <p:cNvPicPr/>
          <p:nvPr/>
        </p:nvPicPr>
        <p:blipFill>
          <a:blip r:embed="rId1"/>
          <a:stretch/>
        </p:blipFill>
        <p:spPr>
          <a:xfrm>
            <a:off x="352440" y="1413000"/>
            <a:ext cx="1078380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R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34800" y="76500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nho (2016 e 2017) – Em R$ milhões de Junh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34800" y="633744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Imagem 1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1080144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1523880" y="8366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e Junh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Imagem 1" descr=""/>
          <p:cNvPicPr/>
          <p:nvPr/>
        </p:nvPicPr>
        <p:blipFill>
          <a:blip r:embed="rId1"/>
          <a:stretch/>
        </p:blipFill>
        <p:spPr>
          <a:xfrm>
            <a:off x="334800" y="1341360"/>
            <a:ext cx="10801440" cy="51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34800" y="698400"/>
            <a:ext cx="1080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Junh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12840" y="645480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Imagem 1" descr=""/>
          <p:cNvPicPr/>
          <p:nvPr/>
        </p:nvPicPr>
        <p:blipFill>
          <a:blip r:embed="rId1"/>
          <a:stretch/>
        </p:blipFill>
        <p:spPr>
          <a:xfrm>
            <a:off x="334800" y="1417680"/>
            <a:ext cx="10801440" cy="5037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Zila de Jesus de Oliveira - MPS</cp:lastModifiedBy>
  <cp:lastPrinted>2017-08-04T21:08:50Z</cp:lastPrinted>
  <dcterms:modified xsi:type="dcterms:W3CDTF">2017-08-04T21:15:10Z</dcterms:modified>
  <cp:revision>426</cp:revision>
  <dc:subject/>
  <dc:title>Demografia</dc:title>
</cp:coreProperties>
</file>